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D5A-9263-4A92-93C8-17C36197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AEE-66D1-4402-91D7-212BAF53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C3D-6258-452C-908E-12365D8E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721-EA35-4736-A1F3-B2CC9019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CDAC-A858-4B60-9F57-5A1A1E3F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9027-F35A-4577-BF89-D86AC128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1B8B-45A1-430F-969D-177D81B6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21D7-6A19-4BEE-9C8D-351CAA21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648C-289B-4FAA-8E83-C92362E1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B9EB-FE22-4D73-BE14-2670C8FB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ED32-C57D-4A43-AEA6-4359F8E4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18E-255B-4418-A70E-3F08F5D2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9859-B951-4A13-B42C-6819730E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F2C0-1F69-42C4-B825-6027F0C2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D3B9-DA21-41FC-BF46-3DF1280B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EB7C-C359-40C1-91EE-74DEA730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7269-2AE5-43CD-9913-7AD1E6A6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A18-767F-4507-B3CC-25D36137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170-ED48-4217-8935-69AC77EC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225-C623-48A5-B150-8CE51EF1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9B4-84A5-473B-9231-681886B5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4CA-D339-4A2F-A90C-B723DA14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D4A-2482-4949-B4E7-FB907C53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9DD-D01E-463C-817B-C3E06A56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B66F-D70A-42F6-B562-0F48944B2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76CE-3732-45B4-BE04-DE8820818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вадратные неравенств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тор: Группа квадратных неравен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Хотим начать со слов персидско-таджикского поэта Рудаки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 тех пор как существует мирозданье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акого нет, кто б не нуждался в знанье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кой мы ни возьмем язык и век, 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сегда стремится к знанью человек 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тивац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находит ли применение эти неравенства в окружающем нас мире?! А может это просто прихоть математиков?! Наверно нет! Ведь всякое явление можно описать с помощью функции, а умения решать неравенства позволяют ответить на вопрос, при каких значениях аргумента эта функция положительна, а при каких отрицатель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Неравен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ида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 +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b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+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&gt; 0, где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≠0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, b, 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некоторые числа, называются 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квадратны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 Black"/>
              </a:rPr>
              <a:t>Алгоритм решения неравенств второй степени с одной переменной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694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ведите неравенство к ви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0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отрите функц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пределите направление ветв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йдите точки пересечения параболы с осью абсцисс (для ни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х1и х2 найдите, решая уравнение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хематически постройте график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2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делите часть параболы, для котор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&gt;0 (y&lt;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 Black"/>
              </a:rPr>
              <a:t>Пример решения неравенств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.5х2+9х-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&l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ссмотрим функц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5х2+9х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Графиком функции является парабола, ветви которой направлены ввер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4. 5х2+9х-2=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1=-2; х2=1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4501" t="0" r="0" b="18265"/>
          <a:stretch/>
        </p:blipFill>
        <p:spPr>
          <a:xfrm>
            <a:off x="3924360" y="5261040"/>
            <a:ext cx="29512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92360" y="531720"/>
            <a:ext cx="5904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9:10:12Z</dcterms:created>
  <dc:creator>Елена</dc:creator>
  <dc:description/>
  <dc:language>en-US</dc:language>
  <cp:lastModifiedBy>Елена</cp:lastModifiedBy>
  <dcterms:modified xsi:type="dcterms:W3CDTF">2011-06-02T20:13:34Z</dcterms:modified>
  <cp:revision>3</cp:revision>
  <dc:subject/>
  <dc:title>Квадратные неравенства</dc:title>
</cp:coreProperties>
</file>